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0AC7-30B6-443A-BEC1-FDEBEECC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1581-5734-4552-BB83-6C3A8A0D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3010-7FBA-4D73-9483-7B2D6D50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8994-99C4-4903-BB4B-4B4565AF3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AB7D-03BF-4672-B66B-D6A01FC9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CD2A-A2A4-4433-9F04-54C4E922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73CE-9FAB-4A98-A591-FB7A2187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B181-6AB2-4371-919A-0C9D38E6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7FDD-61EB-4547-BD7B-7043E8DF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C6D7-ECD5-465F-8047-B1BADCC0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8434-B250-498E-9CED-E2B2D651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A0FD-C1E0-4C47-9916-7F1F274B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92CD-C416-406D-ABEC-E9BC2602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0BA2-A004-4B0E-BD11-DEC5E0C9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36B4-96E5-4847-9653-7DE1EBA9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924F-49F7-46BF-A788-B98A94C6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ED0D-4309-402A-B0D2-565BE4D1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9ED-02EB-4FFF-832E-0E6AA2A3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C181-B2B4-4FDF-BC79-1E912CE0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E3DE-36F5-47E2-A921-66DD24FC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FA0B-97D0-48DB-A35F-4AF806E1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8D26-33F3-4612-8A6A-A02D5BD8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A034-1AAE-4B1C-A7C1-C0E8C816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D08C-7539-4CFC-B8E5-1745454E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6ED8-E8D1-4E6F-94C9-AF8B0089C8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E578-D8C4-4214-A9CF-1BBD6D279F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Компьютер: друг или враг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897440" y="3760920"/>
            <a:ext cx="4246560" cy="309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Плюсы использования детьми компьютера: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мпьютер способствует развитию творческого вообра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иртуальный мир может стать для вашего ребенка и игрой, и учением одновремен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лагодаря компьютеру можно получать новые знания, не выходя из до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мпьютер не критику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мпьютер поможет крохе увидеть все великое разнообразие ми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омпьютерные игры развивают у ребен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ыстроту реак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лкую моторику ру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изуальное восприятие объек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амять и вним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огическое мыш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рительно-моторную координац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copmputer" descr="Это не только мамин ноутбук:)"/>
          <p:cNvPicPr/>
          <p:nvPr/>
        </p:nvPicPr>
        <p:blipFill>
          <a:blip r:embed="rId1"/>
          <a:stretch/>
        </p:blipFill>
        <p:spPr>
          <a:xfrm>
            <a:off x="7086600" y="304920"/>
            <a:ext cx="1619280" cy="12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омпьютерные игры учат ребенка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лассифицировать и обобща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алитически мыслить в нестандартной ситуа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биваться своей цел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вершенствовать интеллектуальные навы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629400" y="5257800"/>
            <a:ext cx="1295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яд негативных факторов 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должает развиваться костная система, кисть руки еще находится в стадии развит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тенсивные преобразования претерпевает такая важная для обучения функция - произвольного вним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рушается чувство самосохран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 излишней увлеченности компьютером - остается не пройденным жизненный "материал"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бенок недополучает реальный опы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бенок сверх меры увлеченный виртуальным миром, невольно отгораживается от реальной жизн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ряется интерес к нормальным детским играм и естественному всестороннему обучению и общению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того чтобы компьютер стал в вашей семье другом для ребенка, а не врагом, необходимо соблюда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Вывод: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Итак, вы познакомились, как с плюсами, так и с минусами общения ребенка с компьютером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499840"/>
            <a:ext cx="747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з компьютера ребенку не обойти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з умения пользоваться им юный человек почувствует себя изгоем в современном мире среди сверстников и друз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036320"/>
            <a:ext cx="794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олько от нас с вами зависит, сколько ребенок будет играть, какие программы освоит, чему научится, а от чего откажется, и главное — не затмит ли мир виртуальный красоту и гармонию настоящего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76520" y="5791320"/>
            <a:ext cx="57150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    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Список литературы:</a:t>
            </a:r>
            <a:br>
              <a:rPr sz="3600"/>
            </a:br>
            <a:br>
              <a:rPr sz="36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1. Старшова Н. В. Как помочь ребёнку сохранить здоровье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//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етский сад от А до Я.-2003.- №1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  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2.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http://referat.ru</a:t>
            </a: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72200" y="3505320"/>
            <a:ext cx="22096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5-29T13:04:2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